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тегрисане ака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давање лекова у пракси – В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наставна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Вештина вербалне и невербалне комуникације с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ацијентом - принцип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403280" y="537372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Срђан Стефан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збегавати питања која наводе пацијента на одговор или унапред критикују (осуђују): нпр.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Немате никаквих проблема са узимањем еналаприла, је л' да?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односно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Шта сте чекали до сада, што се нисте раније обратили лекару?"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исправљати пацијента ако погреши (направи лапсус) када је у питању стручни термин, нпр. у именовању лека, нарочито ако је вама јасно о ком леку се 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ктивно слушање пациј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тавити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отворено питањ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пустити пацијента да прича, стрпљиво и пажљиво га слушати, па када застане надовезати се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овим отвореним питање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и тако надаље док не добијемо потребне пода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рафразирање: понављање онога што вам је пацијент саопштио на други н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зимирање: "ако сам вас добро разумео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тивно слушање пацијента нам омогућ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покажемо интересовање, бригу и одговорност за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пацијент схвати како је равноправан учесник у разговору и решавању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 сазнамо све важне информациј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колико пацијент зна о болести/леку, како узима лек, има ли било каквих проблема са узимањем лека укључујући и нежељена дејства, шта очекује од примењене терапије и др.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* "Попунити празнине" приликом поновних сусрета са пацијенто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90% онога што што су чули људи забораве у току сат времен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Bolton R. People Skills. NY: Simo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chuster; 197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вербална комуник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елесне особине, спољашњи изглед (фризура, одевеност), контакт погледом, израз лица и покрети тела (гестикулације), паралингвистички знаци (висина, тон гласа, ћутање), физички контакт (додир), простор/окружење,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огаћује и оплемењује свеукупну комуник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носи емоционалне по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вербална комуник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91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спех у директној комуникациј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"лицем у лице"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lbert Mehrabian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"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авил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овор тела -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5%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is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он гласа -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8%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V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адржај онога што је изговорено -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%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Verb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ајважнији је контакт погледо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 гледати пацијента у очи све време, у супротном он ће сматрати да нисте искрени према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580000" y="2637000"/>
            <a:ext cx="533520" cy="914400"/>
          </a:xfrm>
          <a:custGeom>
            <a:avLst/>
            <a:gdLst>
              <a:gd name="textAreaLeft" fmla="*/ 0 w 533520"/>
              <a:gd name="textAreaRight" fmla="*/ 192600 w 533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156360" y="2637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93% неверб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стизање договора са пацијентом о даљем лече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штен и искрен договор са фармацеутом =&gt; пацијент прихвата одговорност за сопствено лечење =&gt; узима терапију онако како је прописано =&gt; успех у леч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а би се такав договор постигао пацијент мора да вам веруј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ко постићи такав догов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стизање договора са пацијентом о даљем лече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декватна вербална и невербална комуникација: ставити до знања пацијенту да је равноправан партнер у доношењу одлуке о начину ле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о пацијент схвати да га потцењујете, правите разлик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змеђу вас и њега, не само да вам неће рећи све оно што је потребно да донесете правилну одлуку, већ ни ваш предлог о даљем лечењу засигурно неће пошто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стизање договора са пацијентом о даљем лече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 мора да буде објективно и прецизно информисан о свим чињеницама и детаљима у вези лечења и све мора да му буде потпуно јас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чин узимања лека/правилно дозир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фикасност и безбедност (сва могућа нежељена дејства)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ре оп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аћење ефеката терапије (основне и допунске дијагностичке процеду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стизање договора са пацијентом о даљем лече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ада сте сигурни да је пацијент схватио све што је потребно у вези са предложеном терапијом, кроз искрен разговор теба му дати прилику да се обавеже да ће лекове узимати онако како је прописано, тј. да ће у свему испоштовати договор постигнут са в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Могуће препреке у комуник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Функционалн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физичк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: поремећај говора, оштећење слуха или вида, комуникација на језику који није матерњи, неописмињеност и необразовање саговорника, неодговарајући амбијент (бучна средина, ометање од стране других л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тратегије превазилажењ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вати јасне вербалне препо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ристити писани начин комуникације (крупнији текст, слике, шеме и с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езбедити мање бучну (мирнију) сре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нављати инфо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езбедити преводиоца,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обра комуникација као кључна вештина у обављању здравствене дела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733920" y="4267080"/>
            <a:ext cx="1752480" cy="144792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075560" y="57722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ЦИЈ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6858000" y="47242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ЕДИЦИН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ТЕХНИ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304920" y="47242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ЕК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505320" y="228600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3399"/>
                </a:solidFill>
                <a:latin typeface="Comic Sans MS"/>
              </a:rPr>
              <a:t>ФАРМАЦЕ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438280" y="4800600"/>
            <a:ext cx="1219320" cy="457200"/>
          </a:xfrm>
          <a:prstGeom prst="leftRightArrow">
            <a:avLst>
              <a:gd name="adj1" fmla="val 50000"/>
              <a:gd name="adj2" fmla="val 530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562720" y="4800600"/>
            <a:ext cx="1218960" cy="4572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 rot="5400000">
            <a:off x="3962160" y="3352680"/>
            <a:ext cx="1219320" cy="457200"/>
          </a:xfrm>
          <a:prstGeom prst="leftRightArrow">
            <a:avLst>
              <a:gd name="adj1" fmla="val 50000"/>
              <a:gd name="adj2" fmla="val 530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11"/>
          <p:cNvCxnSpPr>
            <a:stCxn id="86" idx="1"/>
            <a:endCxn id="85" idx="0"/>
          </p:cNvCxnSpPr>
          <p:nvPr/>
        </p:nvCxnSpPr>
        <p:spPr>
          <a:xfrm flipV="1" rot="10800000">
            <a:off x="1332720" y="2590560"/>
            <a:ext cx="2172600" cy="2134080"/>
          </a:xfrm>
          <a:prstGeom prst="curvedConnector2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" name="AutoShape 12"/>
          <p:cNvCxnSpPr>
            <a:stCxn id="86" idx="3"/>
            <a:endCxn id="84" idx="0"/>
          </p:cNvCxnSpPr>
          <p:nvPr/>
        </p:nvCxnSpPr>
        <p:spPr>
          <a:xfrm>
            <a:off x="5562720" y="2590920"/>
            <a:ext cx="2324880" cy="2134080"/>
          </a:xfrm>
          <a:prstGeom prst="curvedConnector2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AutoShape 13"/>
          <p:cNvSpPr/>
          <p:nvPr/>
        </p:nvSpPr>
        <p:spPr>
          <a:xfrm>
            <a:off x="2133720" y="3276720"/>
            <a:ext cx="1981080" cy="914400"/>
          </a:xfrm>
          <a:custGeom>
            <a:avLst/>
            <a:gdLst>
              <a:gd name="textAreaLeft" fmla="*/ 0 w 1981080"/>
              <a:gd name="textAreaRight" fmla="*/ 1981440 w 19810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</a:rPr>
              <a:t>ПРОФЕСИОНАЛ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</a:rPr>
              <a:t>ОДН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5029200" y="3276720"/>
            <a:ext cx="1981080" cy="914400"/>
          </a:xfrm>
          <a:custGeom>
            <a:avLst/>
            <a:gdLst>
              <a:gd name="textAreaLeft" fmla="*/ 0 w 1981080"/>
              <a:gd name="textAreaRight" fmla="*/ 1981440 w 19810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</a:rPr>
              <a:t>ПРОФЕСИОНАЛ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omic Sans MS"/>
              </a:rPr>
              <a:t>ОДН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 rot="19057800">
            <a:off x="-228600" y="2362320"/>
            <a:ext cx="2743200" cy="1218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ешав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облема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 rot="2759400">
            <a:off x="6553080" y="2362320"/>
            <a:ext cx="2743200" cy="1219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ешав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облема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17"/>
          <p:cNvCxnSpPr>
            <a:stCxn id="85" idx="2"/>
            <a:endCxn id="84" idx="2"/>
          </p:cNvCxnSpPr>
          <p:nvPr/>
        </p:nvCxnSpPr>
        <p:spPr>
          <a:xfrm flipH="1" rot="16200000">
            <a:off x="4609440" y="2057760"/>
            <a:ext cx="2160" cy="6554160"/>
          </a:xfrm>
          <a:prstGeom prst="curvedConnector5">
            <a:avLst>
              <a:gd name="adj1" fmla="val 81800000"/>
              <a:gd name="adj2" fmla="val 49997"/>
              <a:gd name="adj3" fmla="val 81800000"/>
            </a:avLst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Могуће препреке у комуник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Емоционалн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- претпоставке, предрасуде, или објективни разлози (бол, патња због болести/инвалидитета) из чега се рађају: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рах, анксиозност, "непријатељски став", агресивност, туга, депресивност, стид, збуњеност, незаинтересованост (дефицит пажње, изостанак мотивације)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сновна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тратегија превазилажењ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 овладавање вештином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критичког расуђивањ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 садржају онога што је пацијент саопштио ("слушати иза речи", "читати између редова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Могуће препреке у комуник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582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раци у критичком расуђивању и реаговањ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редити емоционално стање пацијента (бесан, тужан, задовољан/радостан, уплаш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зимирајте отвореним питањима - покажите пацијенту да разумете како се осећа, без критике или осуђивања и пустите га да објасни своје емоције ("Колико видим, ви сте веома...због...", или "Мора да сте веома ... због ....", или "Сигурно да вам није лако да говорите о...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атити невербалну комуникацију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 истицати своје стручно мишљење и не неметати пацијенту да га безусловно прихвати, макар и да сте апсолутно у прав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зитиван став у комуник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посредно, искрено и на одговарајући начин изражавање мисли, осећања и ув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амопоштовање и поштовање других (емпат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окусираност на проблем који пацијент 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јективност у одбрани својих или туђих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бијање неразумних захтева пријатеља или сара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зитиван став у комуник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вереност у сопствени суд, прихватање одговорности за своје ставове и поступ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хватање позитивних критика и предлога (бољих реш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ражење помоћи када је потреб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лажење решења које у највећој могућој мери одговара свим стран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прихватати осуде и критике стручности других здравствених радника које је пацијент изрека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рело приступање особама са негативним ста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гативан став у комуник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гресивност (често у недостатку аргумен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влачење (одаје несигурност, немотивисаност да се пружи помоћ пацијент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нипулативно понашање у циљу остваривања неког интереса (ласкање, улизивање, обм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ступ агресивном пацијен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доживљавати претње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заузимати дефанзиван став (повлачење), али и не "враћати истом мером" вербално и неверба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покушавајте да смирите пацијента тако што ћете удовољити његовим захтевима, али будите спремни на договор (компром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ступ агресивном пацијен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таложено и мирно саслушајте пацијента, дајте му прилику да изнесе своје примедбе, извините се ако су оправд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оклевајте да затражите помоћ искуснијег коле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јважнија је безбедност: ваша лична, односно безбедност особљ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других пациј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ступ растројеном или узнемиреном пацијен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тврдити узрок растројености / узнемире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ветите таквом пацијенту пуну паж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устите пацијента да прича о свом проблему, пажљиво га саслушај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удите отворени и искрени, покажите емпатију, али никада не покушавајте да га убедите да знате како се осећ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ступ растројеном или узнемиреном пацијен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кушајте сами да решите његов проблем, а ако нисте у стању, уз сагласност пацијента затражите помоћ ко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мајте у виду да понекад и физички контакт може да помог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мојте избегавати таквог пацијента када га сретнете наредни пут, али не показујте ни одушевље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Кључне пору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обра комуникација са пацијентом има велики значај за успех у ле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а увек треба активно укључити у решавање проблема као равноправног партнера у доношењу одл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 комуникацији са пацијентом увек треба задржати професионалан од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Квалитетна комуникација са пациј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цијент мора бити активно укључен у решавање свог здравственог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рају се уважити мишљење, став, бриге и очекивања пацијента, његов културни ниво и његово окружење ("систем вредности пацијента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ски циљ се мора саопштити пациј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аљно и разумљиво му објаснити све појединости везане за примену лека/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 крају, тражити његову сагласност, тј. постићи договор, како би се применио одређени поступ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мо ако се испуне претходно наведени услови, што се постиже добром комуникацијом, можемо очекивати успех у лече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Кључне пору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582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зитиван став заснива се на одговарајућој припреми и познавању основних принципа вербалне и невербалне комун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ступ пацијентима са негативним ставом представља посебан изазов за фармаце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тизање договора са пацијентом о даљем лечењу, као "круна добре комуникације", гарантује остваривање терапијског ци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Квалитетна комуникација омогућ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дговарајућу процену свих проблема пациј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ационално коришћење лекова и дијагностичких поступ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тваривање одговарајуће сарадње са пацијентом (комплијанса, конкордан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птималан исход лече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зе у комуникацији са пациј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спостављање одговарајућег односа са пациј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стизање договора са пацијентом о примени дијагностичких и терапијских поступ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Успостављање одговарајућег односа са пациј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нос заснован на узајамном поштовању и повере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декватно се представити пацијенту, дочекати га  љубазним речима и ставити му до знања да је добродоша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мати разумевања за проблеме пацијента - показати да вам је стало до њега, пружити му подр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говарајућа вербална и невербална (говор тела) комун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држати професионални однос - бити стално усмерен на решавање проблема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авилно узета анамнеза = "више од половине дијагноз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премити се на одговарајући начи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аљно се информисати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олести (ма): посебно о начину на који пацијент и његово окружење доживљавају проблеме (квалитет живота пацијен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овима које пацијент користи (медикаментозна анамн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езбедити одговарајуће услове (амбијент) за раз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чин и стил изражавања прилагодити пацијенту (директно обраћање једноставним изражавање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збегавати неодређене, нејасне и стручне термине: нпр.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можда", "често", "видећемо се", "ускоро", "некако", "ономад",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"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да ли редовно пијете Пресолол?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" 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узимајте овај лек три пута дневно",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носно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АЦЕ инхибитор", "мелена", "диспнеја", фебрилност, "субиктеричан", "еметогено", "фармакокинетика"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икупљање података од пациј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9152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мишљено, према потреби, користити "отворена" (непотпуна) и "затворена" (комплетна) пи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р отвореног питања: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Имате ли било каквих проблема са узимањем еналаприла?"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"Реците ми молим вас како ћете узимати овај лек убудућ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р затвореног питања: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Да ли сте пушач?"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"Да ли узимате еналаприл сваког дана?"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13</cp:lastModifiedBy>
  <dcterms:modified xsi:type="dcterms:W3CDTF">2021-01-29T08:33:48Z</dcterms:modified>
  <cp:revision>15</cp:revision>
  <dc:subject/>
  <dc:title>Slide 1</dc:title>
</cp:coreProperties>
</file>